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81F-6A3D-455C-A494-DDBFFF60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1B9-BFE9-47A4-9D7B-4368652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25A-3E30-4828-85D1-FBA5D0F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5C3-5D3E-47F3-BC09-8FCE3B2E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596-15DA-446F-A5C0-959B979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B13-FB8D-4B87-AD44-95B6B456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CB9-7CE7-4F62-9CA9-012FF8A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F09-7C47-4D8B-B588-F8ADF909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5C4-9FA4-41D6-AC6E-A508482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90B-CFCF-4607-9342-A91DF98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1AF-D9B8-4DC6-AB60-F1DE86F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3CC-BDFC-400C-9951-9A03EBB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AFE-EE9F-4AF2-8DCA-7E132169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8763120" cy="701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0666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24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16720" y="457200"/>
            <a:ext cx="276516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77120" y="762120"/>
            <a:ext cx="1182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820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11556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4876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571680"/>
            <a:ext cx="4952880" cy="571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-138240"/>
            <a:ext cx="5429520" cy="699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5129" r="5127" b="0"/>
          <a:stretch/>
        </p:blipFill>
        <p:spPr>
          <a:xfrm>
            <a:off x="3048120" y="2057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0" b="21755"/>
          <a:stretch/>
        </p:blipFill>
        <p:spPr>
          <a:xfrm>
            <a:off x="3581280" y="0"/>
            <a:ext cx="289080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13161" t="21056" r="13161" b="0"/>
          <a:stretch/>
        </p:blipFill>
        <p:spPr>
          <a:xfrm>
            <a:off x="7010280" y="83808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657600" y="2743200"/>
            <a:ext cx="205092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800600" y="2971800"/>
            <a:ext cx="77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4320" y="0"/>
            <a:ext cx="52545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76640" y="1238400"/>
            <a:ext cx="4590720" cy="43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22580" t="10798" r="24731" b="19010"/>
          <a:stretch/>
        </p:blipFill>
        <p:spPr>
          <a:xfrm>
            <a:off x="3581280" y="2362320"/>
            <a:ext cx="2514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53:30Z</dcterms:created>
  <dc:creator>Patrick J. Mooney</dc:creator>
  <dc:description/>
  <dc:language>en-US</dc:language>
  <cp:lastModifiedBy>Patrick J. Mooney</cp:lastModifiedBy>
  <dcterms:modified xsi:type="dcterms:W3CDTF">2010-10-14T03:47:01Z</dcterms:modified>
  <cp:revision>14</cp:revision>
  <dc:subject/>
  <dc:title>Slide 1</dc:title>
</cp:coreProperties>
</file>